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07271"/>
        <c:axId val="62467717"/>
      </c:barChart>
      <c:catAx>
        <c:axId val="15307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67717"/>
        <c:crosses val="autoZero"/>
        <c:auto val="1"/>
        <c:lblAlgn val="ctr"/>
        <c:lblOffset val="100"/>
        <c:noMultiLvlLbl val="0"/>
      </c:catAx>
      <c:valAx>
        <c:axId val="62467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07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4AA-C5CD-46FB-97FA-4AEB41A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6AF-58E0-45C4-9ADD-F8434AE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4FF-13EA-4B5C-8997-9BE2E751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008-37B6-4C9D-9DAF-851129A3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9BB-29F3-4908-9015-370C9BC9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368-24B4-4D0F-9179-CAA0F88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4DB-35A3-465C-B378-671A39BD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B6D-F747-4284-B5B8-694740EF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CB5-0613-4B77-8242-5F16A3F5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20B-C3BA-4CF8-ADD3-6C30771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A01-C194-4FA2-9398-81DE36B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07B-1F75-43C9-814B-2C83640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09E15-7EB7-45AD-80D2-607324B48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