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83778"/>
        <c:axId val="99357871"/>
      </c:barChart>
      <c:catAx>
        <c:axId val="27783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57871"/>
        <c:crosses val="autoZero"/>
        <c:auto val="1"/>
        <c:lblAlgn val="ctr"/>
        <c:lblOffset val="100"/>
        <c:noMultiLvlLbl val="0"/>
      </c:catAx>
      <c:valAx>
        <c:axId val="99357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83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6C9-FA04-43CE-AD51-4843F63B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1D4-5D46-4B78-80C8-EC81416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084-304D-421E-9234-57733239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01C-2B96-4EC2-9790-36B1AC0A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8F4-0DD5-47D6-9CD7-E2C1A68D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938-6612-4870-8309-E9E9ABD6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4D6-84E8-409E-A5B5-C0ACFF1E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6CA-C857-41E0-8468-65EA5B55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FCA-F8C2-4D98-BFCC-9241E288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B0E-84F6-48D9-97FF-1D238CC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D5E-89FC-49A8-9875-727356D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020-3C37-48FA-BD09-12E1984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02D9B-6668-4407-8D14-0FEB0CBC7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