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60538"/>
        <c:axId val="94348970"/>
      </c:barChart>
      <c:catAx>
        <c:axId val="78760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8970"/>
        <c:crosses val="autoZero"/>
        <c:auto val="1"/>
        <c:lblAlgn val="ctr"/>
        <c:lblOffset val="100"/>
        <c:noMultiLvlLbl val="0"/>
      </c:catAx>
      <c:valAx>
        <c:axId val="94348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60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9BB-0DE3-448E-AE64-A3E2B3D5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BE3-4F0E-4881-8F90-169D678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F87-49BE-48EA-97A6-64E701D6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B2E-1769-4831-9392-84C86A38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1E7-59D8-4A3F-B09C-8D530CD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79A-214A-48C1-A0DE-FDEEE078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A54-F34B-4532-B502-932C982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AD3-BC4A-4720-AB03-38EC379A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434-0EC0-47B2-8908-0AC447B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AF6-E896-45CA-9AD1-9871486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C47-021F-40BB-AD0F-5D47E9B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649-F8D6-4250-ADFD-1ABABF1B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A7C67-78CE-449E-AF0D-530A359C5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