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161008"/>
        <c:axId val="10516096"/>
      </c:barChart>
      <c:catAx>
        <c:axId val="991610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516096"/>
        <c:crosses val="autoZero"/>
        <c:auto val="1"/>
        <c:lblAlgn val="ctr"/>
        <c:lblOffset val="100"/>
        <c:noMultiLvlLbl val="0"/>
      </c:catAx>
      <c:valAx>
        <c:axId val="105160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1610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F329-011B-4AD8-954C-4774CBCA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2EDE-3FF8-434A-8A3F-B05A0505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FE09-466C-4DCB-878D-8F579A111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F34B-C77A-48B2-9119-CAB31EDE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FF1C-87BE-4C2A-A50E-D71831E0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CF31-1EE1-4605-8B31-D47E79D8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727D-F8FA-4C92-AC6C-F17D2A5F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3EA5-C495-4C72-85E2-68D013B3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CB2D-8C0D-469B-9C00-50F5ECA4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BA9A-4C28-4F7F-92D5-A69A45B5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C18C-D438-4469-927C-95928236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B5B0-2D91-4708-A068-106D6495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50B0B-384E-4492-B214-C316088882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