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69654"/>
        <c:axId val="53123088"/>
      </c:barChart>
      <c:catAx>
        <c:axId val="47469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23088"/>
        <c:crosses val="autoZero"/>
        <c:auto val="1"/>
        <c:lblAlgn val="ctr"/>
        <c:lblOffset val="100"/>
        <c:noMultiLvlLbl val="0"/>
      </c:catAx>
      <c:valAx>
        <c:axId val="53123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69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384-815D-4582-A5F1-335818C6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5A3-9718-44BF-AF2C-7D121754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203-524D-477E-AD8A-77E01FB0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80D-794E-48FB-9187-F0AB65DC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B96-B68D-4090-B3EE-389798FB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8FC-7632-42AC-9D85-49966126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C87-1AE1-4E5A-BA20-6FD567AD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662-6CBE-474C-8390-FDB52DD9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DD7-5EFB-47B6-8762-611295F0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6E0-0293-4014-9033-B56F956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675-3CFB-49AA-B955-E63923CC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7CA-94BE-4FA3-A867-6270F79F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22900-FB8D-40F4-9338-A758E5C503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