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91763"/>
        <c:axId val="84833224"/>
      </c:barChart>
      <c:catAx>
        <c:axId val="34191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33224"/>
        <c:crosses val="autoZero"/>
        <c:auto val="1"/>
        <c:lblAlgn val="ctr"/>
        <c:lblOffset val="100"/>
        <c:noMultiLvlLbl val="0"/>
      </c:catAx>
      <c:valAx>
        <c:axId val="84833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91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6B5-8EF1-419C-BD3A-D38572C3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0BC-7464-4531-A822-C42C8A3E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60E-B66E-4E4B-BEDB-493CCD0E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B0F-39B9-4E8C-B84B-A2E073F0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B30-09B5-40A8-A6D1-1A9D21BE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533-095A-4721-8F4E-F7F3C1F2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939-9CB4-44FB-BA77-747DB29C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3E3-359E-4B57-965A-026D3652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D9A-D41C-4AAC-81E4-4222FFAA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FDA-970B-4B34-BBEC-65B3FF50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AEB-B8BF-4F62-B3CC-F59B2CA9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C69-8611-46B8-BB14-8F168DFB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B9689-B809-4352-8FBE-7FBFD04637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