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92865"/>
        <c:axId val="97348212"/>
      </c:barChart>
      <c:catAx>
        <c:axId val="12992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48212"/>
        <c:crosses val="autoZero"/>
        <c:auto val="1"/>
        <c:lblAlgn val="ctr"/>
        <c:lblOffset val="100"/>
        <c:noMultiLvlLbl val="0"/>
      </c:catAx>
      <c:valAx>
        <c:axId val="97348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2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FA3-3F97-4AEF-AA28-9303F682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09A-3C7D-4F11-8C3B-4A94350E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B22-846C-42A3-8680-0B9D246E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8A8-41EE-447B-B7A4-2F816D28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F1D-B83A-4CBF-A377-838C03F9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6FC-24C7-43D4-8BAB-A74FC702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94D-60DA-4458-A12B-6CD0F4E1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79A-1EF7-4E5D-939F-72FC8E1C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19B-483E-40EF-81B1-73F63A4A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8FF-B578-40B4-AD97-276EA6C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9B4-11DF-4FB7-90B9-8123AD7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F84-DFA6-469D-8305-CF675CEA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F3CAD-25D3-42FC-8161-9D3247435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