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1806"/>
        <c:axId val="76564561"/>
      </c:barChart>
      <c:catAx>
        <c:axId val="5561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64561"/>
        <c:crosses val="autoZero"/>
        <c:auto val="1"/>
        <c:lblAlgn val="ctr"/>
        <c:lblOffset val="100"/>
        <c:noMultiLvlLbl val="0"/>
      </c:catAx>
      <c:valAx>
        <c:axId val="76564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1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67E6-C1BE-4240-B86F-7C198BF1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A442-0A14-42C4-934D-4CF00442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562E-0643-49A8-9F4C-1D11F15A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DBC-FD50-4070-8D81-EB9842B1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79B-A8A6-4E40-A520-1D6AAA1E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EFB-B687-43FA-AF1C-0495E42A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7EC-6E87-4E68-9BE1-25C73219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06B-BCD8-490F-9A2D-8F073599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01F-544D-4A09-86D7-D7CAF577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C921-56A3-4947-9FDE-1ABCA7D3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3AFF-9F56-47C9-A11C-9B486799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5196-BB39-4AAE-BACD-7C7CBE15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37AA8-41BF-491C-B91F-D98CA2B1A5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