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10266"/>
        <c:axId val="93262027"/>
      </c:barChart>
      <c:catAx>
        <c:axId val="58210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2027"/>
        <c:crosses val="autoZero"/>
        <c:auto val="1"/>
        <c:lblAlgn val="ctr"/>
        <c:lblOffset val="100"/>
        <c:noMultiLvlLbl val="0"/>
      </c:catAx>
      <c:valAx>
        <c:axId val="93262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10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634-045A-4191-A9E0-B55DE49D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D92-9526-45F6-8526-9D71FF7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773-8D69-475F-BA3B-AD563CB2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258-3834-425D-B885-3BB8B7A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CDB-8AC3-4E58-9CC3-D1E6121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865-C884-4A02-B375-321C1749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903-70DA-4E48-BA4A-26C0583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753-5713-493A-9294-52034DFE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34B-5BAC-402B-9676-1ACEA4E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FF1-23D2-4B6A-9B76-5FFEDF8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D07-DB98-4094-A24C-6B83F39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198-E6A8-4EE8-A65A-562B421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44357-3F8A-4E34-9A75-690E9CB17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