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21983"/>
        <c:axId val="41901073"/>
      </c:barChart>
      <c:catAx>
        <c:axId val="20521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01073"/>
        <c:crosses val="autoZero"/>
        <c:auto val="1"/>
        <c:lblAlgn val="ctr"/>
        <c:lblOffset val="100"/>
        <c:noMultiLvlLbl val="0"/>
      </c:catAx>
      <c:valAx>
        <c:axId val="41901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21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FE9-C255-4310-B21F-AD600C8D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541-2E2D-48CC-94CE-F2A64BB7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913-3386-45D2-8915-F184C1B1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AB2-10C0-40BA-BC77-5FCF66AA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25B-150C-42E3-AC9E-CCDE3924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E2A-DD18-42A8-8577-5A9AC76B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49F-0658-49C7-B4D7-760A835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A0E-9C96-4746-B1DE-232F2B0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279-71A6-4A87-9B42-E40B2688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56A-892E-4A9E-B872-100290F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898-BE9E-4EC8-92D3-FF1068D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2ED-0CF7-4123-9F9D-01E77F0F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CD6DB-8009-487B-AF00-6266A3014A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