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876397"/>
        <c:axId val="85196792"/>
      </c:barChart>
      <c:catAx>
        <c:axId val="928763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96792"/>
        <c:crosses val="autoZero"/>
        <c:auto val="1"/>
        <c:lblAlgn val="ctr"/>
        <c:lblOffset val="100"/>
        <c:noMultiLvlLbl val="0"/>
      </c:catAx>
      <c:valAx>
        <c:axId val="851967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8763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FCED-E74F-4EA1-9769-D162B3FD5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10FF-2947-4333-994F-4F6BF41D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81DE-B15D-4B40-AD85-3C0874CE8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18AE-4566-4634-AC2F-E343AF122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F770-3991-4D56-9CF2-4EB99372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C81E-99ED-4E5D-8E6B-3EC03818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5ED6-6EA0-454A-90BB-5DAB9932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3BBA-B7B1-4D2C-8CC2-857990BD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5C77-5375-4B3D-888C-837FE64C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1E67-AE7C-48A7-A968-55C84F08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32FA-821A-4B99-A27B-96917330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3F22-1AAA-4EDA-B687-F5DCA4B7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9EC26-4BBE-4058-91DA-323509BFFE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