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8156"/>
        <c:axId val="87202412"/>
      </c:barChart>
      <c:catAx>
        <c:axId val="1988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2412"/>
        <c:crosses val="autoZero"/>
        <c:auto val="1"/>
        <c:lblAlgn val="ctr"/>
        <c:lblOffset val="100"/>
        <c:noMultiLvlLbl val="0"/>
      </c:catAx>
      <c:valAx>
        <c:axId val="8720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8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AA5-7F71-4877-A70A-8E1E5325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334-9A29-48D5-9E58-1BD18A77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F04-492B-462B-9259-CB8935E0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29A-FE4D-4D68-8154-0F6F5ABB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1F5-0153-4486-93CA-0722A2D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B0C-38AA-4648-89F8-1C8A63C9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51A-0B90-4000-BB67-F501528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908-E34A-4B40-B1DF-1584470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12E-443A-4712-AC07-CA89D5CB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6A2-1BE2-431F-9E63-44618DA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2D4-11A6-46AC-9B8E-1BEB1AA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CFF-DD2C-4242-9F00-E2A9338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9AD2-2C06-425B-A75D-5356C0A59F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