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68325"/>
        <c:axId val="98807477"/>
      </c:barChart>
      <c:catAx>
        <c:axId val="94868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07477"/>
        <c:crosses val="autoZero"/>
        <c:auto val="1"/>
        <c:lblAlgn val="ctr"/>
        <c:lblOffset val="100"/>
        <c:noMultiLvlLbl val="0"/>
      </c:catAx>
      <c:valAx>
        <c:axId val="98807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68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EE6-FE92-42B0-92AB-3BCB26DC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6EA-9FE6-45FA-85D0-E295C86C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BCF-F4AA-4080-8F30-4C48D572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107-C272-4135-B545-380A09C9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7D2-4BC0-4D84-842F-789F2F0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17E-1F5B-426E-991F-5FCABEE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F96-519D-410E-BAEE-950AD580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35D-8A1C-45CB-9CF2-CA498987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7F7-9574-43C8-8521-AEF21128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82E-FF6B-4C59-BF83-6FB9976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F69-DC8F-449B-8D35-834630D2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F74-E091-4D50-B5EB-A7B06EE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D8887-4601-48F3-8A62-E8D51F7247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