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50978"/>
        <c:axId val="20629747"/>
      </c:barChart>
      <c:catAx>
        <c:axId val="6455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9747"/>
        <c:crosses val="autoZero"/>
        <c:auto val="1"/>
        <c:lblAlgn val="ctr"/>
        <c:lblOffset val="100"/>
        <c:noMultiLvlLbl val="0"/>
      </c:catAx>
      <c:valAx>
        <c:axId val="20629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5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577-84B4-4D2D-9C8B-A7EE2181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5B4-FC7B-4A73-BE23-00AF029F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5E9-728F-4323-8087-7441FF4D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F68-0C8B-42F1-BFF8-CDB14681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4A4-3FD0-4795-97BC-DD28EAA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F27-BA1A-46DC-9CBF-83E8E3B8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9D7-DD87-4304-951B-FB9407F0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79D-5CF8-46E5-9490-837F6B9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4C3-BA2D-45FA-9844-B3A4CB4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9C3-7182-4F3E-B431-EF371B0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181-3BB9-4103-BBDD-9AB88F9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2BF-5F4D-4570-960D-F41A3AD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C0FFD-BC1F-41A0-A6FC-09C999EFA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