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82621"/>
        <c:axId val="28868256"/>
      </c:barChart>
      <c:catAx>
        <c:axId val="66782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68256"/>
        <c:crosses val="autoZero"/>
        <c:auto val="1"/>
        <c:lblAlgn val="ctr"/>
        <c:lblOffset val="100"/>
        <c:noMultiLvlLbl val="0"/>
      </c:catAx>
      <c:valAx>
        <c:axId val="28868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82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0BB-5752-49E1-A8DD-69E04466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14C-3230-4A49-A5ED-22DB44BA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950-BC8F-46F5-B1CC-7A7263F9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65B-AC40-4641-8168-6F756A9F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98C-6CA7-4433-9718-4ED501C0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5A3-CC52-4C5E-AFE8-1D25BBE2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AB6-45DE-4D34-9A9C-8DE77023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837-26F7-4EAC-8ACD-9F4F0655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FF2-E065-4B9F-B2B5-1C6385EE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1CB-7292-4255-834D-917E91FE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4C2-D705-4FCC-B64A-9F2E5046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360-B631-409A-B852-7AD53097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1129C-535F-43E3-8087-156E412500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