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17796"/>
        <c:axId val="55595440"/>
      </c:barChart>
      <c:catAx>
        <c:axId val="79217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5440"/>
        <c:crosses val="autoZero"/>
        <c:auto val="1"/>
        <c:lblAlgn val="ctr"/>
        <c:lblOffset val="100"/>
        <c:noMultiLvlLbl val="0"/>
      </c:catAx>
      <c:valAx>
        <c:axId val="55595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7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FCB-F3A7-4333-9086-9014A057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3FA-7352-41DB-9389-3C8AADE5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751-C320-424E-ACCD-049854C8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E37-5D56-4F36-9F7A-15BF5F61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4A6-47FF-4823-9F72-F31019B8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990-AAA7-4E27-AE9B-D5CC009C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31E-0FD1-458B-8399-EF20331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4F0-1F5C-482B-9A68-01F99059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462-C361-4850-99D0-821245C5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072-AEA7-4D2F-92E7-86433CB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756-F636-4A66-AEBF-B5A73593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AB4-C72E-4608-9E98-1F524A7F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226F6-DBA4-4D2D-839D-AA9CB07B65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