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919931"/>
        <c:axId val="47949218"/>
      </c:barChart>
      <c:catAx>
        <c:axId val="709199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49218"/>
        <c:crosses val="autoZero"/>
        <c:auto val="1"/>
        <c:lblAlgn val="ctr"/>
        <c:lblOffset val="100"/>
        <c:noMultiLvlLbl val="0"/>
      </c:catAx>
      <c:valAx>
        <c:axId val="479492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9199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28CC-AA49-43FD-A918-316CD548C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708A-EEE8-4C7A-8681-7BBAB7FC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A68C-5AC9-4E80-9C44-9CE20CC93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7973-5115-4EB5-8BA5-490C21608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75B5-66BC-42DD-A3FB-D4CD39F0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DD26-E644-4FF1-BE75-F5CE1266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C379-52A1-42A8-BCAA-1F5F9407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6A9A-DD3A-45E4-8AD4-4C21C682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B0E7-870D-4CDD-928E-4CF63CF5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D841-2335-467F-8A2F-BEF1BC3E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DCDB-DB37-4F23-8602-159F0CA9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7D79-D646-4DD1-B181-839F4072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2AAFA-7320-4BA8-9CE6-6623EF1269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