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55582"/>
        <c:axId val="24004545"/>
      </c:barChart>
      <c:catAx>
        <c:axId val="588555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04545"/>
        <c:crosses val="autoZero"/>
        <c:auto val="1"/>
        <c:lblAlgn val="ctr"/>
        <c:lblOffset val="100"/>
        <c:noMultiLvlLbl val="0"/>
      </c:catAx>
      <c:valAx>
        <c:axId val="24004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555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3B32-D6CD-4336-B66F-2598DEC8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DAAA-12AF-4851-9047-52CD8153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9497-8CF8-4D9C-932F-51BFA283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F0A-6A38-455F-97D0-A32A9B60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62BD-FF7F-4E73-812F-75B80756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8C7F-02AD-4EAB-8937-2C24F932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4279-7A95-4A0C-A739-5DBF223E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6AF-387F-4626-BA35-98836ABC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CADE-CF61-481A-A6E2-954630B9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BD0-C7B7-45EE-8713-416849DD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B22A-72C5-4334-B71B-19BFA4BE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FE5-9407-4DE8-B69E-0D236282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5EFA0-6321-48BE-B2BF-5476945E87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