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73883"/>
        <c:axId val="58271508"/>
      </c:barChart>
      <c:catAx>
        <c:axId val="71173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1508"/>
        <c:crosses val="autoZero"/>
        <c:auto val="1"/>
        <c:lblAlgn val="ctr"/>
        <c:lblOffset val="100"/>
        <c:noMultiLvlLbl val="0"/>
      </c:catAx>
      <c:valAx>
        <c:axId val="58271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3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594-056A-4F7E-80DC-01D8AD6F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99B-00C7-4196-B931-5905702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796-D4C2-4A03-A1B5-31151504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DA8-8409-41E9-8BEB-A23C84B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770-5B6D-4E0D-A878-C0CB7355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0A6-5413-4929-AB51-EC81541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D78-0617-4D8F-8E7B-10EB0D36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EAB-9050-4B88-8A77-EAE710B2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B4D-2228-4EDD-85F2-99372CB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441-4852-4696-90C3-7C1FC51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5A3-45B7-4A21-AF75-86F46D0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2E1-89A7-4BF0-81AA-3DF205FE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9EFB1-9583-4F18-9F78-7DE2D7B1A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