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23722"/>
        <c:axId val="24544137"/>
      </c:barChart>
      <c:catAx>
        <c:axId val="84523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44137"/>
        <c:crosses val="autoZero"/>
        <c:auto val="1"/>
        <c:lblAlgn val="ctr"/>
        <c:lblOffset val="100"/>
        <c:noMultiLvlLbl val="0"/>
      </c:catAx>
      <c:valAx>
        <c:axId val="24544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23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EE3-2544-434F-9F68-F8BC8AE0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EBA-B8F2-481C-8881-BF25B8C7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E56-4235-4B1E-B5D1-0570D65A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AC5-9480-4DB1-8F32-C879B4C1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BDD-9CBD-410B-AC95-71685D8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79D-EB14-4F1B-8A0C-7A3BFC60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4CD-3A81-4942-B05C-B01353C8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1C5-247C-4E6A-B6C8-F403A77D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8EB-1DF9-48C7-AFCD-A2477FA5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54F-3CA7-4BD0-AE1F-6DEF6C7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519-C0A3-49D1-B1D6-4EEC838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97E-BE31-484E-8A6D-F3D606B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2CD21-7D89-47F4-9DC5-9737561EB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