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99655"/>
        <c:axId val="53036786"/>
      </c:barChart>
      <c:catAx>
        <c:axId val="55799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36786"/>
        <c:crosses val="autoZero"/>
        <c:auto val="1"/>
        <c:lblAlgn val="ctr"/>
        <c:lblOffset val="100"/>
        <c:noMultiLvlLbl val="0"/>
      </c:catAx>
      <c:valAx>
        <c:axId val="530367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99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F64-A2A8-4041-A699-8F7A733E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E66-7610-488F-9E66-CFB79373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83C-BE32-4911-BFBE-E4FF9EDD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C5D-FC05-4C0C-A973-EDEB0562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084-FF1E-40B4-A3DE-8A1C32C2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1D8-327B-4A1E-A040-E6FC5FF5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B1FE-B767-4506-A443-25BBF74E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B08-7E62-4EEB-8EC9-EEC86C99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DE21-116C-4A70-977A-D06EB720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B8A-004B-4AB5-B7DE-D62A870A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CF0-3445-4E72-996F-ED58D7BA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EC8-CEBF-4041-97B4-51143897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0DABD-C61A-4F5A-8CF5-52556ADD58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