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963506"/>
        <c:axId val="79305612"/>
      </c:barChart>
      <c:catAx>
        <c:axId val="249635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305612"/>
        <c:crosses val="autoZero"/>
        <c:auto val="1"/>
        <c:lblAlgn val="ctr"/>
        <c:lblOffset val="100"/>
        <c:noMultiLvlLbl val="0"/>
      </c:catAx>
      <c:valAx>
        <c:axId val="793056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9635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4262-52BC-4900-B4AE-56E1D8ACA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6C30-3FA3-4BFB-A974-41B8EE8F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A965-530B-41F3-A23A-5DD4B5E1B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040C-DE93-4B24-BD45-BF88C1872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6C9E-54D6-49C0-8F9A-BAE20AA1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6B3F-BE0F-4A4E-88E4-E202B823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65E7-C66B-43BD-B7EB-22DC331D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7E9A-B7DB-43EA-A78E-272C3AAD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7C7B-7496-48B1-9990-D1E6DEB0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6C39-AE19-4BDD-B4EB-B536728E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2FFF-4591-469F-8DAF-B4E0A366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7201-B00B-46BF-B5F3-239171F4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E458B-81E5-4DC4-89DF-7A938743D4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